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move the slid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F8BF5-38E0-48FC-911F-3FBD53A5005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EFCFD-EF3D-45D1-8090-19E22C12F7A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1DF8B-6693-4550-8430-C4F0FF28179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60E85-C67A-424F-9C42-0C94702B224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37B0-F181-47E8-80C0-526F0E736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1221-58AD-4F11-A85B-C66A45336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B74E-801F-4B72-B520-67497B9D3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F0A6-6692-4A9D-9C3F-6C6EAEBD8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E536A-FAA0-40D4-AD5F-33BAEABF5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15CBB-0E8E-4645-AF8D-FD8EDA900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D9B83-221E-4276-8FCC-8D9379478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569C0-EC36-496E-974B-B87FCA658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94034-32F6-4AB9-BDE5-FB21D6185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CD038-359E-4DBD-92F9-FD5017EFA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A7CDC-9005-4E9E-AD48-7BB16BD01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B44F-0E4A-49F0-9EB3-929E8237D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31966-8B51-440D-80CB-FBD67B839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D57EB-0D70-4653-96C3-BA9A52C63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FBA5C-5BCF-4D1A-B83C-B3B034AD8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E5B8C-A7B6-4D54-BA5E-60019B4F5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6CC57-DA31-45B5-9062-B592F886C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04DF1E-6911-4700-9A16-D014C83B6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FD8346-95CC-43D3-AD52-F023906F3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4EF8A2-9FDF-4F2D-9573-2D9A3530D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B7EC68-38B1-418B-9E7C-A74DCD8CD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26E4E0-EBFF-4FDC-AC4D-19E6A106F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7DE0-AC0E-4816-B40E-0D425C0FA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33B049-745E-4298-B6CE-0EEAFE598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90B60E-65AD-4FDA-BCBE-C8B34E781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1432ED-F060-4049-84C9-C89F39EFF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5792BA-3B2E-4AAB-BC67-5082BE045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0D84AA-BC6E-4507-A804-3EDFD18D1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0A03D2-E87F-47F9-BF36-36EA64082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C4CC43-D716-4D42-94A1-3AAADAB56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E5CE9-41A9-4E05-B92D-7C4E2B49B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44533-D198-4E54-84E1-E67FE5458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8C61C-AB55-4FAC-B7FE-70E0D4A40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4C98-8CE8-422C-BF5E-A3701004E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1A405-0E1B-4F6B-98D8-44366FAF1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39D29-E5DC-44E5-9C4A-3B1D66475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9D94F-E3C2-4F70-9884-B8F600FC2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CDD0F-D178-4A3F-93ED-8BE8F857A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767A9-6F4F-4E2A-96FC-93A02D59B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F5530-792B-4E75-BEC3-68DA94E30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98BFD-2AED-4BD6-8912-7AE3BE7EF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8DDD9-9C00-4E07-8B57-D25BDF026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68FA6-3E3B-495B-9F33-D467535DB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5216-50A8-464D-820D-E54269309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0B51-C37F-4114-B65D-917F2699D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818F-F02A-49F1-9AC8-28B7BA7FD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8775-9B0D-445B-94F3-923D24E2E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A707-941A-4F9F-A8A9-6A964FF88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080" cy="7116840"/>
            <a:chOff x="-567360" y="0"/>
            <a:chExt cx="10459080" cy="711684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552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552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552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508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3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800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736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496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4104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56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188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3032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428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796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6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336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28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32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32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440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6F541-85D5-4511-BFB8-84117DA6B343}" type="slidenum">
              <a:rPr b="0" lang="fr-F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60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20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117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91" name="Rectangle 118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92" name="Rectangle 119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95" name="Rectangle 115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96" name="Rectangle 116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sp>
            <p:nvSpPr>
              <p:cNvPr id="97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98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99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sp>
          <p:nvSpPr>
            <p:cNvPr id="100" name="Freeform 62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01" name="Freeform 63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02" name="Freeform 64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03" name="Freeform 66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04" name="Freeform 67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05" name="Hexagon 68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06" name="Hexagon 7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07" name="Hexagon 72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08" name="Hexagon 73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09" name="Hexagon 74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10" name="Freeform 75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11" name="Hexagon 76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12" name="Hexagon 77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13" name="Hexagon 78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14" name="Hexagon 79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15" name="Hexagon 80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16" name="Hexagon 81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17" name="Hexagon 82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18" name="Hexagon 83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19" name="Hexagon 84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20" name="Freeform 85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21" name="Freeform 86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122" name="Rectangle 12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Rectangle 124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Rectangle 125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Rectangle 126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1442D-4F9C-4277-9290-4CE60FD40121}" type="slidenum">
              <a:rPr b="0" lang="fr-FR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60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168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120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117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75" name="Rectangle 118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76" name="Rectangle 119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79" name="Rectangle 115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80" name="Rectangle 116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sp>
            <p:nvSpPr>
              <p:cNvPr id="181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82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83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sp>
          <p:nvSpPr>
            <p:cNvPr id="184" name="Freeform 62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85" name="Freeform 63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86" name="Freeform 64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87" name="Freeform 66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88" name="Freeform 67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89" name="Hexagon 68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90" name="Hexagon 7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91" name="Hexagon 72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92" name="Hexagon 73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93" name="Hexagon 74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94" name="Freeform 75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95" name="Hexagon 76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96" name="Hexagon 77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97" name="Hexagon 78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98" name="Hexagon 79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99" name="Hexagon 80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00" name="Hexagon 81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01" name="Hexagon 82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02" name="Hexagon 83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03" name="Hexagon 84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04" name="Freeform 85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05" name="Freeform 86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206" name="Rectangle 12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Rectangle 124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Rectangle 125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Rectangle 126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7B5A7-9814-4B62-B39F-97FFC03AFB05}" type="slidenum">
              <a:rPr b="0" lang="fr-F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60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252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120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117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59" name="Rectangle 118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60" name="Rectangle 119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63" name="Rectangle 115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64" name="Rectangle 116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sp>
            <p:nvSpPr>
              <p:cNvPr id="265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266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267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sp>
          <p:nvSpPr>
            <p:cNvPr id="268" name="Freeform 62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69" name="Freeform 63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70" name="Freeform 64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71" name="Freeform 66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72" name="Freeform 67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73" name="Hexagon 68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74" name="Hexagon 7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75" name="Hexagon 72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76" name="Hexagon 73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77" name="Hexagon 74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78" name="Freeform 75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79" name="Hexagon 76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80" name="Hexagon 77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81" name="Hexagon 78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82" name="Hexagon 79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83" name="Hexagon 80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84" name="Hexagon 81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85" name="Hexagon 82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86" name="Hexagon 83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87" name="Hexagon 84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88" name="Freeform 85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89" name="Freeform 86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290" name="Rectangle 12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1" name="Rectangle 124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2" name="Rectangle 125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3" name="Rectangle 126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D4E3B-7EB9-4390-BF04-BF7BADF14F05}" type="slidenum">
              <a:rPr b="0" lang="fr-F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733640" y="270792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4c600"/>
                </a:solidFill>
                <a:latin typeface="Century Gothic"/>
              </a:rPr>
              <a:t>CAT – Level 2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734000" y="4420800"/>
            <a:ext cx="330984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242"/>
                </a:solidFill>
                <a:latin typeface="Century Gothic"/>
              </a:rPr>
              <a:t>Unité 3 – Nous sommes allés en provence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24242"/>
                </a:solidFill>
                <a:latin typeface="Century Gothic"/>
              </a:rPr>
              <a:t>Rencontrons …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24242"/>
                </a:solidFill>
                <a:latin typeface="Century Gothic"/>
              </a:rPr>
              <a:t>Dr. &amp; Mrs. Vandertrampp!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4c600"/>
                </a:solidFill>
                <a:latin typeface="Century Gothic"/>
              </a:rPr>
              <a:t>Qui sont Dr. &amp; Mrs. Vandertrampp?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5" name="Picture 5" descr="jim_backus3"/>
          <p:cNvPicPr/>
          <p:nvPr/>
        </p:nvPicPr>
        <p:blipFill>
          <a:blip r:embed="rId1"/>
          <a:stretch/>
        </p:blipFill>
        <p:spPr>
          <a:xfrm>
            <a:off x="299880" y="1938240"/>
            <a:ext cx="770112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4c600"/>
                </a:solidFill>
                <a:latin typeface="Century Gothic"/>
              </a:rPr>
              <a:t>Qui sont Dr. &amp; Mrs. Vandertrampp?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e3d2d"/>
                </a:solidFill>
                <a:latin typeface="Century Gothic"/>
              </a:rPr>
              <a:t>Non bien sûr!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e3d2d"/>
                </a:solidFill>
                <a:latin typeface="Century Gothic"/>
              </a:rPr>
              <a:t>Ce sont les Howell de l’île de Gilligan!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e3d2d"/>
                </a:solidFill>
                <a:latin typeface="Century Gothic"/>
              </a:rPr>
              <a:t>Voici les VRAIS Dr. &amp; Mrs. Vandertrampp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c600"/>
                </a:solidFill>
                <a:latin typeface="Century Gothic"/>
              </a:rPr>
              <a:t>Qui sont Dr. &amp; Mrs. Vandertrampp?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685440" y="1980720"/>
            <a:ext cx="3962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e3d2d"/>
                </a:solidFill>
                <a:latin typeface="Century Gothic"/>
              </a:rPr>
              <a:t>Ils ont passé une vie très chargée !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e3d2d"/>
                </a:solidFill>
                <a:latin typeface="Century Gothic"/>
              </a:rPr>
              <a:t>Ils ont fait beaucoup dans leur longue vie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e3d2d"/>
                </a:solidFill>
                <a:latin typeface="Century Gothic"/>
              </a:rPr>
              <a:t>Qu’est-ce qu’ils ont fait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50" name="Picture 39" descr="old-couple"/>
          <p:cNvPicPr/>
          <p:nvPr/>
        </p:nvPicPr>
        <p:blipFill>
          <a:blip r:embed="rId1"/>
          <a:stretch/>
        </p:blipFill>
        <p:spPr>
          <a:xfrm>
            <a:off x="4800600" y="2362320"/>
            <a:ext cx="434340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4c600"/>
                </a:solidFill>
                <a:latin typeface="Century Gothic"/>
              </a:rPr>
              <a:t>Qui sont Dr. &amp; Mrs. Vandertrampp?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2" name="Text Box 3"/>
          <p:cNvSpPr/>
          <p:nvPr/>
        </p:nvSpPr>
        <p:spPr>
          <a:xfrm>
            <a:off x="304920" y="1752480"/>
            <a:ext cx="685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&amp;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2666880" y="1752480"/>
            <a:ext cx="685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2895480" y="175248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U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5" name="Text Box 6"/>
          <p:cNvSpPr/>
          <p:nvPr/>
        </p:nvSpPr>
        <p:spPr>
          <a:xfrm>
            <a:off x="609480" y="175248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VENU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6" name="Text Box 7"/>
          <p:cNvSpPr/>
          <p:nvPr/>
        </p:nvSpPr>
        <p:spPr>
          <a:xfrm>
            <a:off x="609480" y="223992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VENU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7" name="Text Box 8"/>
          <p:cNvSpPr/>
          <p:nvPr/>
        </p:nvSpPr>
        <p:spPr>
          <a:xfrm>
            <a:off x="685800" y="419112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TÉ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8" name="Text Box 9"/>
          <p:cNvSpPr/>
          <p:nvPr/>
        </p:nvSpPr>
        <p:spPr>
          <a:xfrm>
            <a:off x="609480" y="467820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STÉ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9" name="Text Box 10"/>
          <p:cNvSpPr/>
          <p:nvPr/>
        </p:nvSpPr>
        <p:spPr>
          <a:xfrm>
            <a:off x="609480" y="516420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RTI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0" name="Text Box 11"/>
          <p:cNvSpPr/>
          <p:nvPr/>
        </p:nvSpPr>
        <p:spPr>
          <a:xfrm>
            <a:off x="2895480" y="21114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LÉ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1" name="Text Box 12"/>
          <p:cNvSpPr/>
          <p:nvPr/>
        </p:nvSpPr>
        <p:spPr>
          <a:xfrm>
            <a:off x="2917800" y="248616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É (NAÎTRE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2" name="Text Box 13"/>
          <p:cNvSpPr/>
          <p:nvPr/>
        </p:nvSpPr>
        <p:spPr>
          <a:xfrm>
            <a:off x="2917800" y="28512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CENDU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3" name="Text Box 14"/>
          <p:cNvSpPr/>
          <p:nvPr/>
        </p:nvSpPr>
        <p:spPr>
          <a:xfrm>
            <a:off x="2895480" y="321624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TRÉ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4" name="Text Box 15"/>
          <p:cNvSpPr/>
          <p:nvPr/>
        </p:nvSpPr>
        <p:spPr>
          <a:xfrm>
            <a:off x="2908440" y="35830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TRÉ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5" name="Text Box 16"/>
          <p:cNvSpPr/>
          <p:nvPr/>
        </p:nvSpPr>
        <p:spPr>
          <a:xfrm>
            <a:off x="2881440" y="39481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MBÉ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6" name="Text Box 17"/>
          <p:cNvSpPr/>
          <p:nvPr/>
        </p:nvSpPr>
        <p:spPr>
          <a:xfrm>
            <a:off x="2898720" y="431316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TOURNÉ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7" name="Text Box 18"/>
          <p:cNvSpPr/>
          <p:nvPr/>
        </p:nvSpPr>
        <p:spPr>
          <a:xfrm>
            <a:off x="2895480" y="46800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RIVÉ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8" name="Text Box 19"/>
          <p:cNvSpPr/>
          <p:nvPr/>
        </p:nvSpPr>
        <p:spPr>
          <a:xfrm>
            <a:off x="2971800" y="504504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RT (MOURIR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9" name="Text Box 20"/>
          <p:cNvSpPr/>
          <p:nvPr/>
        </p:nvSpPr>
        <p:spPr>
          <a:xfrm>
            <a:off x="2895480" y="541008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RTI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0" name="Text Box 21"/>
          <p:cNvSpPr/>
          <p:nvPr/>
        </p:nvSpPr>
        <p:spPr>
          <a:xfrm>
            <a:off x="2895480" y="577692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SÉ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71" name="Picture 22" descr="old-couple"/>
          <p:cNvPicPr/>
          <p:nvPr/>
        </p:nvPicPr>
        <p:blipFill>
          <a:blip r:embed="rId1"/>
          <a:stretch/>
        </p:blipFill>
        <p:spPr>
          <a:xfrm>
            <a:off x="4800600" y="2362320"/>
            <a:ext cx="434340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3T00:08:49Z</dcterms:created>
  <dc:creator>Mr. Smith</dc:creator>
  <dc:description/>
  <dc:language>en-US</dc:language>
  <cp:lastModifiedBy>Windows User</cp:lastModifiedBy>
  <dcterms:modified xsi:type="dcterms:W3CDTF">2013-12-11T13:08:40Z</dcterms:modified>
  <cp:revision>41</cp:revision>
  <dc:subject/>
  <dc:title>Allez, viens! – Level 2</dc:title>
</cp:coreProperties>
</file>